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30320"/>
            <a:ext cx="0" cy="660060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06280" y="76320"/>
            <a:ext cx="8048880" cy="0"/>
          </a:xfrm>
          <a:prstGeom prst="line">
            <a:avLst/>
          </a:prstGeom>
          <a:ln w="5076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43040" cy="91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957440" y="6310440"/>
            <a:ext cx="167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9002-4737-47E9-960D-4DDBA407ABB7}" type="slidenum"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462720" y="63626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E2A1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Manage Demobilization Procedures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0574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demobilization procedures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iven a requirement t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the demobilization procedures and access to DA PAM 600-72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22096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Identified the required elements of a demobilization plan and final processing procedures to include a departure ceremon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s stated in DA PAM 600-72, Chapter 8.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19:10:42Z</dcterms:created>
  <dc:creator>ADG</dc:creator>
  <dc:description/>
  <dc:language>en-US</dc:language>
  <cp:lastModifiedBy>Administrator</cp:lastModifiedBy>
  <cp:lastPrinted>2000-03-15T00:31:16Z</cp:lastPrinted>
  <dcterms:modified xsi:type="dcterms:W3CDTF">2005-07-08T14:06:56Z</dcterms:modified>
  <cp:revision>2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E\CCE5H10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